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E22-8966-452D-8C20-C7EF00AB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6FF-D446-4B6D-96F5-D6ED42B2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7D2-B38B-48B4-9A36-AFA3A931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9F8-22F9-4038-AF15-CBE5DEB3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9BD-F897-46FD-9B51-4B6F30DB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3659-1392-45FB-B476-65C7E07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A92-20E9-4603-BD9E-6682301D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DCCF-28DA-48C9-AFA7-B4088E0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AE38-D064-4995-9613-E0D7E748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489E-784A-49D8-8386-4C9F2B2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24FE-E87E-4613-98CF-FD4B42F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66F-4DFA-4282-8DDB-2CFEA7DD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4654-46E0-477A-9541-EFEADAFB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20B8-27F5-4662-809A-5742F4F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1F8C-8E5D-4F6C-B9BA-9B3B6E35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AF9-631C-40FE-BE43-60EF213C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0865-AAC8-4871-B524-35D9ADFD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18B-13EE-4AE2-B310-78E4E237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38E-52AC-4CE3-8E7A-8FDA767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E09-0C14-4650-8088-5809159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6C0-6FEB-4AB3-96BA-D8725B4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C1F-6835-48F0-9684-8006803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A94-58BD-4A7A-9169-FB9C5186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D65-472D-4966-B1F0-51DAA0F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B0F-7092-4771-B611-9891B67889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441-6063-445D-A10D-632CCAE322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. The Epistle of St. Jam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5148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cc66"/>
                </a:solidFill>
                <a:uFillTx/>
                <a:latin typeface="Tahoma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1. Father Tadros Malaty - Bible Study of St. Ja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2. Orthodox Study B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cc66"/>
                </a:solidFill>
                <a:latin typeface="Tahoma"/>
              </a:rPr>
              <a:t>3. William Barclay - The Daily Study Bible S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2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law of love: do not judge others and do not sh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rtiality to others.</a:t>
            </a:r>
            <a:br>
              <a:rPr sz="24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ch and the poor - unjustly judging others is an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xample of a fainthearted faith being manifest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unjust works (2:1-5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God does not show partiality to anyone. Do not sh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artiality to anyone (2:5-9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aith that Works (2:14-20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6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is chapter talks about taming the tongu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is chapter is an example of a breakdown of faith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ork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we say reveals what we are: If we can contr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hat we say, we can control what we do.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ntrolling what we say is an example of lack of faith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nd results in lack of works (3:1-12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7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t. James warns against hypocrisy in teaching and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unseling. He warns of the development of a self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entered faith and he notes that self-centered faith wi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anifest itself in self-centered works, and in this case,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e will be helping others in an unhelpful manner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(3:13-18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mentions that a wisdom that is self-seeking do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not descend from above but it is earthly, sensual, and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emonic (3:15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He mentions that the wisdom that's from above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ure, peaceable, gentle, willing to yield, full of merc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nd good fruits, without partiality, and withou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ypocrisy (3:17). </a:t>
            </a: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9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rels in the church are yet another example of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reakdown of faith and works (4:1-10). Such disput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come from desires or passions which bring disruption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he body of Christ. These passions are divisive (4:1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elf-centered (4:3), of this world (4:4), energized b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atan (4:7), and therefore at enmity with God (4:4)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d does not answer prayers for our selfish desi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(4:3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0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5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4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t. James warns of criticizing others (4:11-12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elittling criticism of others is another way pride is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vealed in our speech. It is a lack of faith united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evil works, an offense both to the person criticized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to Go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lways present the will of God, for you don't know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what will happen tomorrow (4:13-14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refore to him who knows to do good and does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o it, to him it is sin (4:17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5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terrible fate of the unjust rich is that their weal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will condemn them (5:1-6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ncouragement to the oppressed (5:7-12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Do not grumble against one another (5:9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ersevere as did Job - The faithful prophets and sai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are examples for us in how t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patience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(5:10-11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Tahoma"/>
              </a:rPr>
              <a:t>Chapter 5</a:t>
            </a:r>
            <a:br>
              <a:rPr sz="31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he role of the Church in healing of the sick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(5:13-20). “Is anyone among you sick? Let hi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all for the elders of the church, and let hi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pray over him, anointing him with oil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name of the Lord. (5:14, Mark 6:13, 16:1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uthor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St. James, James, a bondservant of God and of the Lord Jesus Christ." (1:1) He was one of the twelve disciples. Also known as James the just, James the less, James the brother of Jesus, James the son of Alphaeus (Matthew 10:3). He was the first Bishop of Jerusalem where he presided over the Jerusalem Council (Acts 12:17, 21:17, 15:13). Christ appeared to St. James after His resurrection (1 Cor 15:7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he Epistle was writ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ound 55-60 A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ipients of the Epistle: the twelve tribes which are scattered abroad," (1:1). Thus the epistle is not addressed to a particular church or geographical reg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tting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people James addresses are experiencing various trials: persecution, deception (Chapter 1), economic injustice and poverty (Chapters 1, 2 and 5), apostasy (Chapters 1 and 5) and divisions in the Church (Chapters 3 and 4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n response to these trials, people are tempted b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depression over being snubbed and persecuted by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Jews (Chapters 1 and 5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anger at having their good will being taken advantag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of (Chapters 1)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bitterness over being so poor when godless Jew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were so rich (Chapter 2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impatience over the delay in the return of Chris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(Chapter 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ical Background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plagued most by the sin of hypocrisy - the split between profession and practice, between faith and works which is manifested in distrust, dissension and quarr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me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rmony of faith and wor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1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is chapter addresses faith (1:2-18) and works 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(1:19-27)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rials and endurance (1:2-5)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- The issue is not trials per se, but our respons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to them. Trials help increase faith (1:3). The godly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reaction to trials is joy, patience and perseveranc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(1:3-4)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he importance of wisdom in trials (1:5-11). Wisdom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a gift given to those who ask God in faith (1:5-6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St. James talks about the poor and the rich, and talk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about the worthlessness of rich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Let no one say when he is tempted, I am tempted b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God," for God cannot be tempted by evil, nor does 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himself tempt anyone (1:13)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3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Temptation originates in our own sinful passion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(1:14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Warning against deception - every good gift and e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perfect gift is from above, and comes down from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Father of Lights (1:17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God provides salvation of His own will (1:19)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the epistle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(4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Chapter 1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Being doers not just hearers of the word (1:19-27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Verses 1:26-27 give three examples of the relationship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between faith and works: (1) mastery over speech, (2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ministry to the needy, (3) moral purity in though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deed.</a:t>
            </a:r>
            <a:br>
              <a:rPr sz="2400"/>
            </a:br>
            <a:br>
              <a:rPr sz="24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14:18:23Z</dcterms:created>
  <dc:creator> Fr. Younan</dc:creator>
  <dc:description/>
  <dc:language>en-US</dc:language>
  <cp:lastModifiedBy> Fr. Younan</cp:lastModifiedBy>
  <dcterms:modified xsi:type="dcterms:W3CDTF">2007-09-10T16:50:19Z</dcterms:modified>
  <cp:revision>56</cp:revision>
  <dc:subject/>
  <dc:title>Introduction to the Catholic Epistles</dc:title>
</cp:coreProperties>
</file>